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63A-3375-446A-8CC8-6158AF24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BD8-9E19-4323-8DEF-3CB076D1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C9F-D366-487E-B189-7E738D0B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E9E-3287-4861-AFEF-DA78864F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B07C-12DA-46F2-A11A-E719E6A4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7CA2-F0F8-4F5A-8FA3-A5C3B19A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170B-FE7C-4F21-939A-0C1B4750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586C-5042-419A-BDE8-61451253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0AA1-7C9D-4FA9-9FF8-DE37A653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BCBA-03D4-46D8-80F9-D66C01CC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7D6E-4B1D-4777-AFD9-C958202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348-63C7-4FEF-9C34-CE124182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0849-4497-4BB0-ACC3-0DB4475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035A-E478-4C2C-8F23-368C1483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D04F-674F-4F7D-ACBD-AAD4DC3E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7B90-7AAD-4B42-9727-0628D0A3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89D6-BC21-4477-A71D-3DD26372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133-31F5-4246-9517-A7FF40F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43B-CF36-4D8A-AD61-30E99385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451-F593-4F49-809B-07D60E62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55A-55DB-4E13-BCF7-1D4EB27E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BB8-0A39-478E-8EF1-7E5F355F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0D0-CBA7-42CA-99D0-68B9B2D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141-EDE3-4393-9A6C-CA72909A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11D6-D07A-4E02-8058-51B68EC0FC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805D-F639-418C-BF82-6B5C5A7B06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76360" y="3071520"/>
            <a:ext cx="640080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ай шифров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56r4"/>
          <p:cNvPicPr/>
          <p:nvPr/>
        </p:nvPicPr>
        <p:blipFill>
          <a:blip r:embed="rId1"/>
          <a:stretch/>
        </p:blipFill>
        <p:spPr>
          <a:xfrm>
            <a:off x="4071960" y="47862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857160" y="549360"/>
            <a:ext cx="77155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артова система координа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3" descr="C:\Documents and Settings\мама\Мои документы\Мои результаты сканировани\2010-01 (янв)\сканирование0014.jpg"/>
          <p:cNvPicPr/>
          <p:nvPr/>
        </p:nvPicPr>
        <p:blipFill>
          <a:blip r:embed="rId1"/>
          <a:stretch/>
        </p:blipFill>
        <p:spPr>
          <a:xfrm>
            <a:off x="1143000" y="2000160"/>
            <a:ext cx="721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5" descr="C:\Documents and Settings\мама\Мои документы\Мои результаты сканировани\2010-01 (янв)\сканирование0007.jpg"/>
          <p:cNvPicPr/>
          <p:nvPr/>
        </p:nvPicPr>
        <p:blipFill>
          <a:blip r:embed="rId1"/>
          <a:stretch/>
        </p:blipFill>
        <p:spPr>
          <a:xfrm>
            <a:off x="1285920" y="2071800"/>
            <a:ext cx="638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3" descr="C:\Documents and Settings\мама\Мои документы\Мои результаты сканировани\2010-01 (янв)\сканирование0002.jpg"/>
          <p:cNvPicPr/>
          <p:nvPr/>
        </p:nvPicPr>
        <p:blipFill>
          <a:blip r:embed="rId1"/>
          <a:stretch/>
        </p:blipFill>
        <p:spPr>
          <a:xfrm>
            <a:off x="1357200" y="2214720"/>
            <a:ext cx="60944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Picture 4" descr="C:\Documents and Settings\мама\Мои документы\Мои результаты сканировани\2010-01 (янв)\сканирование0006.jpg"/>
          <p:cNvPicPr/>
          <p:nvPr/>
        </p:nvPicPr>
        <p:blipFill>
          <a:blip r:embed="rId1"/>
          <a:stretch/>
        </p:blipFill>
        <p:spPr>
          <a:xfrm>
            <a:off x="1357200" y="1928880"/>
            <a:ext cx="5194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3" descr="C:\Documents and Settings\мама\Мои документы\Мои результаты сканировани\2010-01 (янв)\сканирование0009.jpg"/>
          <p:cNvPicPr/>
          <p:nvPr/>
        </p:nvPicPr>
        <p:blipFill>
          <a:blip r:embed="rId1"/>
          <a:stretch/>
        </p:blipFill>
        <p:spPr>
          <a:xfrm>
            <a:off x="285840" y="1785960"/>
            <a:ext cx="84978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2" descr="C:\Documents and Settings\мама\Мои документы\Мои результаты сканировани\2010-01 (янв)\сканирование0004.jpg"/>
          <p:cNvPicPr/>
          <p:nvPr/>
        </p:nvPicPr>
        <p:blipFill>
          <a:blip r:embed="rId1"/>
          <a:stretch/>
        </p:blipFill>
        <p:spPr>
          <a:xfrm>
            <a:off x="1714680" y="2428920"/>
            <a:ext cx="5287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2" descr="C:\Documents and Settings\мама\Мои документы\Мои результаты сканировани\2010-01 (янв)\сканирование0008.jpg"/>
          <p:cNvPicPr/>
          <p:nvPr/>
        </p:nvPicPr>
        <p:blipFill>
          <a:blip r:embed="rId1"/>
          <a:stretch/>
        </p:blipFill>
        <p:spPr>
          <a:xfrm>
            <a:off x="1714680" y="1928880"/>
            <a:ext cx="528624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2" descr="C:\Documents and Settings\мама\Мои документы\Мои результаты сканировани\2010-01 (янв)\сканирование0013.jpg"/>
          <p:cNvPicPr/>
          <p:nvPr/>
        </p:nvPicPr>
        <p:blipFill>
          <a:blip r:embed="rId1"/>
          <a:stretch/>
        </p:blipFill>
        <p:spPr>
          <a:xfrm>
            <a:off x="2000160" y="2071800"/>
            <a:ext cx="44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2" descr="C:\Documents and Settings\мама\Мои документы\Мои результаты сканировани\2010-01 (янв)\сканирование0011.jpg"/>
          <p:cNvPicPr/>
          <p:nvPr/>
        </p:nvPicPr>
        <p:blipFill>
          <a:blip r:embed="rId1"/>
          <a:stretch/>
        </p:blipFill>
        <p:spPr>
          <a:xfrm>
            <a:off x="1714680" y="2286000"/>
            <a:ext cx="4836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543800" cy="41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Пока мы делали этот проект, мы узнали, что такое система координат, оси координат, как находить точку по координатам. А самое главное – мы научились рисовать с помощью координат, это нам показалось очень интересным, увлекательным.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Picture 8" descr="AG00011_"/>
          <p:cNvPicPr/>
          <p:nvPr/>
        </p:nvPicPr>
        <p:blipFill>
          <a:blip r:embed="rId1"/>
          <a:stretch/>
        </p:blipFill>
        <p:spPr>
          <a:xfrm>
            <a:off x="8001000" y="4727520"/>
            <a:ext cx="18860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Можно ли зашифровать рисунок с помощью координатной прямой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test"/>
          <p:cNvPicPr/>
          <p:nvPr/>
        </p:nvPicPr>
        <p:blipFill>
          <a:blip r:embed="rId1"/>
          <a:stretch/>
        </p:blipFill>
        <p:spPr>
          <a:xfrm>
            <a:off x="6858000" y="1341360"/>
            <a:ext cx="2286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429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2" descr="систкор"/>
          <p:cNvPicPr/>
          <p:nvPr/>
        </p:nvPicPr>
        <p:blipFill>
          <a:blip r:embed="rId1"/>
          <a:stretch/>
        </p:blipFill>
        <p:spPr>
          <a:xfrm>
            <a:off x="1714680" y="1835280"/>
            <a:ext cx="6215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:\Documents and Settings\мама\Рабочий стол\Координатная плоскость\Декар сист координат рисунки\точка с координ.jpg"/>
          <p:cNvPicPr/>
          <p:nvPr/>
        </p:nvPicPr>
        <p:blipFill>
          <a:blip r:embed="rId1"/>
          <a:stretch/>
        </p:blipFill>
        <p:spPr>
          <a:xfrm>
            <a:off x="2786040" y="2500200"/>
            <a:ext cx="4838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3214440"/>
            <a:ext cx="84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определения координаты точки А опускаем перпендикуля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ь абсцисс – О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ось ординат – О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ная пара чисел (2;3) и есть декартовые координа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чки А (2;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Рисунок 1" descr="прим"/>
          <p:cNvPicPr/>
          <p:nvPr/>
        </p:nvPicPr>
        <p:blipFill>
          <a:blip r:embed="rId1"/>
          <a:stretch/>
        </p:blipFill>
        <p:spPr>
          <a:xfrm>
            <a:off x="1000080" y="214200"/>
            <a:ext cx="59292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исунки на координатной плоск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1213920"/>
            <a:ext cx="83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6),  (-4;6),  (-4;0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;0),   (0;-3),  (-2;-3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-2),   (-4;-2),  (-4;-4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3;-5),  (1;-5),  (2;-4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1),  (1;2),  (-2;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4),  (2;4),  (2;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97"/>
          <p:cNvPicPr/>
          <p:nvPr/>
        </p:nvPicPr>
        <p:blipFill>
          <a:blip r:embed="rId1"/>
          <a:stretch/>
        </p:blipFill>
        <p:spPr>
          <a:xfrm rot="21132000">
            <a:off x="6587640" y="5024160"/>
            <a:ext cx="15051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14560" y="1428840"/>
            <a:ext cx="3895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т такая фигура должна получитс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" descr="C:\Documents and Settings\мама\Мои документы\Мои результаты сканировани\2010-01 (янв)\сканирование0001.jpg"/>
          <p:cNvPicPr/>
          <p:nvPr/>
        </p:nvPicPr>
        <p:blipFill>
          <a:blip r:embed="rId1"/>
          <a:stretch/>
        </p:blipFill>
        <p:spPr>
          <a:xfrm>
            <a:off x="1357200" y="1143000"/>
            <a:ext cx="28465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 flipH="1">
            <a:off x="8714520" y="642960"/>
            <a:ext cx="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0"/>
            <a:ext cx="8572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5),  (8;5),  (9;6),  (9;3),  (8;1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2),  (7;1),  (1;1),  (1;0), (10;-1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;0),  (14;3),  (14;1),  (13;-1),  (10;-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;-3),  (12;-5),  (11;-8 ),  (9;-8),  (10;-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;-5),  (8;-7),  (7;-8),  (5;-8),  (6;-7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-5),  (3;-5), (3;-8), (1;-8),  (0;-5),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1;-7),  (-3;-8),  (-3;3),  (-4;3),  (-4;-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5;-4),    (-7;-4),  (-7;4),  (-6;6),  (-4;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4;8),  (-2;9),  (0;9),  (2;7),  (2;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Documents and Settings\мама\Мои документы\Мои результаты сканировани\2010-01 (янв)\сканирование0003.jpg"/>
          <p:cNvPicPr/>
          <p:nvPr/>
        </p:nvPicPr>
        <p:blipFill>
          <a:blip r:embed="rId1"/>
          <a:stretch/>
        </p:blipFill>
        <p:spPr>
          <a:xfrm>
            <a:off x="5072040" y="2000160"/>
            <a:ext cx="3143160" cy="31132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714240" y="1071720"/>
            <a:ext cx="3571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 все правильно и аккуратно выполнили, должен получится такой рисун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5:42:54Z</dcterms:created>
  <dc:creator>1</dc:creator>
  <dc:description/>
  <dc:language>en-US</dc:language>
  <cp:lastModifiedBy>Nicolai</cp:lastModifiedBy>
  <dcterms:modified xsi:type="dcterms:W3CDTF">2011-06-09T09:06:27Z</dcterms:modified>
  <cp:revision>84</cp:revision>
  <dc:subject/>
  <dc:title>Слайд 1</dc:title>
</cp:coreProperties>
</file>